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BD1C-128F-4B32-8A44-4E45AD7EA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A726-9F57-407F-B3B8-F5E609760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20A58-7A72-4F74-B2E0-65AFC006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2BC53-78C5-4DBB-90A5-94B64AA6A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342B01-3ACE-4278-9759-ABC475487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761C5-E5B0-4D11-888B-A008136DE8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948AC-D1A7-45E3-836A-E6AA0DD5B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56A82-854D-4DD1-9735-0786BED64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979D2-A4B0-48E4-81CB-6BEE4F908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491C2-A96A-4F19-8BEF-897FD45D8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790B3-D222-4B5C-B0AB-72EFEE694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72BB9-658B-4B64-B2BD-C8B8672AA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3E608-F6D4-47DF-A889-A31C98935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80D40-D707-4036-8687-CE048AB6F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84158-F4DE-48C1-AC1B-3777DF138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194D4-194C-4055-B8AB-46AFA3178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58B1BB-6234-467A-A8AE-E74082BBAA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043EB-6B9F-4109-BF72-1DDFA51E9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E6FAC-C76C-4016-B946-E6CDAE0A4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13717-0179-4926-ADD5-0894843A3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D8119F-D565-4C8F-A05F-6F94D33B0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E4906-0D48-44E8-AF68-2058D33A6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F8BB-334D-4380-84F6-17CE2B485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3C67A-402C-4FE2-B86B-0BB74760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561D3-82D6-40A8-B905-B80E25C0C7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B325D-5F33-4522-A89C-9F650A089327}"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0332-CFBD-4518-AAA2-AA455A8211B9}"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lara’s House</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is Magwich going to Clara’s hou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oes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chapter 53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Tom</cp:lastModifiedBy>
  <dcterms:modified xsi:type="dcterms:W3CDTF">2009-03-10T23:53:12Z</dcterms:modified>
  <cp:revision>99</cp:revision>
  <dc:subject/>
  <dc:title>Survivor</dc:title>
</cp:coreProperties>
</file>